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942C-64E0-4CA5-B9BA-33F35D5C2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B6C2-89B2-4FA8-980B-20AF0041D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8E02-D746-4000-B1ED-66D8A9CC0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ED4F-8118-4520-81BF-F01BC4D70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6C159-DA4A-471F-AA7F-27B5BDE6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A64C0-080C-4F3C-8463-BC872E4B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ED15F-AE6F-4CB8-9671-05CA10F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C6947-3A78-41F9-86FE-C1C746D6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03E6A-9B6C-43ED-A866-E706BDA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D1C7C-FED9-4157-BCE1-C64D4F6E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15D59-5382-445F-9B82-A13C5D23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8DF6-3F16-425D-BB6A-BE73D7BF4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76A6-8B11-42B9-A009-698F1C1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CFE3C-44F2-484C-99DB-FEDA924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3FF34-CA81-42AE-884E-943A968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A74BA-3847-41C8-8B8C-26973157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322D8-733F-4148-9722-75C0D0C8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E783-A8F8-4EB9-8CFF-04B3B408C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1021-C7FC-4B0E-944F-EB05A2F02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AD7F-106C-45D8-AD0A-D516949D4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7D05-A9AB-4617-BD0F-00CA37D9F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28A0-E34D-40B6-B5F4-C698753DC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24EE-5BD9-4B33-82EB-D749A9EFF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4C4E-F1C3-47CD-A2B1-41083D767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2f"/>
            </a:gs>
            <a:gs pos="100000">
              <a:srgbClr val="99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7002f"/>
              </a:gs>
              <a:gs pos="100000">
                <a:srgbClr val="99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>
                  <a:alpha val="50196"/>
                </a:srgbClr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/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3456-58CB-44DE-994F-56FB9598D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rc 9"/>
          <p:cNvSpPr/>
          <p:nvPr/>
        </p:nvSpPr>
        <p:spPr>
          <a:xfrm flipH="1">
            <a:off x="5718960" y="3240"/>
            <a:ext cx="3429000" cy="685152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Arc 10"/>
          <p:cNvSpPr/>
          <p:nvPr/>
        </p:nvSpPr>
        <p:spPr>
          <a:xfrm flipV="1">
            <a:off x="6932520" y="-838800"/>
            <a:ext cx="2211480" cy="236196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2f"/>
            </a:gs>
            <a:gs pos="100000">
              <a:srgbClr val="99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>
                  <a:alpha val="50196"/>
                </a:srgbClr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/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Rectangle 7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Freeform 24"/>
          <p:cNvSpPr/>
          <p:nvPr/>
        </p:nvSpPr>
        <p:spPr>
          <a:xfrm>
            <a:off x="187200" y="404640"/>
            <a:ext cx="7489800" cy="554220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/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rc 27"/>
          <p:cNvSpPr/>
          <p:nvPr/>
        </p:nvSpPr>
        <p:spPr>
          <a:xfrm flipH="1">
            <a:off x="5866560" y="3240"/>
            <a:ext cx="3429000" cy="685152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853-4B5B-4D35-99A5-34A5CACE9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257800" y="5285880"/>
            <a:ext cx="358128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ikes cost $3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28800" y="856800"/>
            <a:ext cx="731520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 Narrow"/>
              </a:rPr>
              <a:t>Lucy and George want to buy new bicyc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3048120" y="2743200"/>
            <a:ext cx="4800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3505320" y="2743200"/>
            <a:ext cx="3563640" cy="3276720"/>
            <a:chOff x="3505320" y="2743200"/>
            <a:chExt cx="3563640" cy="3276720"/>
          </a:xfrm>
        </p:grpSpPr>
        <p:pic>
          <p:nvPicPr>
            <p:cNvPr id="114" name="Object 12" descr=""/>
            <p:cNvPicPr/>
            <p:nvPr/>
          </p:nvPicPr>
          <p:blipFill>
            <a:blip r:embed="rId1"/>
            <a:stretch/>
          </p:blipFill>
          <p:spPr>
            <a:xfrm>
              <a:off x="3505320" y="3200400"/>
              <a:ext cx="160488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Object 13" descr=""/>
            <p:cNvPicPr/>
            <p:nvPr/>
          </p:nvPicPr>
          <p:blipFill>
            <a:blip r:embed="rId2"/>
            <a:stretch/>
          </p:blipFill>
          <p:spPr>
            <a:xfrm>
              <a:off x="5105520" y="2743200"/>
              <a:ext cx="196344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Line 16"/>
          <p:cNvSpPr/>
          <p:nvPr/>
        </p:nvSpPr>
        <p:spPr>
          <a:xfrm>
            <a:off x="1143000" y="4267080"/>
            <a:ext cx="335268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Narrow"/>
              </a:rPr>
              <a:t>Lucy’s pl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8480" y="1968480"/>
            <a:ext cx="45720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ucy opened a savings account with $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he got a job and saves $30 per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OPS!  A non-interest bearing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Object 7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353040" cy="318924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6" descr=""/>
          <p:cNvPicPr/>
          <p:nvPr/>
        </p:nvPicPr>
        <p:blipFill>
          <a:blip r:embed="rId2"/>
          <a:stretch/>
        </p:blipFill>
        <p:spPr>
          <a:xfrm>
            <a:off x="2590920" y="4191120"/>
            <a:ext cx="1325520" cy="15080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35002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George’s plan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65530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orge started a savings account with $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e’s saving $25 per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ame non-interest bearing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41008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Your Task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635960" cy="39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tables of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member to begin on week zer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nd the table when they’ve saved enough money to buy the b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rite an equation that shows the connection between the money saved and the week of sa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raph both equations on one set of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Some Question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ere do the lines inters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at does this repres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long will it take each person to save enough money to buy a bi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s this a realistic probl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at could interfere with their pla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Your answers should includ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table of values and an equation for each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ne graph showing Lucy and George’s sav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paragraph explaining you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paragraph answering all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8:59:55Z</dcterms:created>
  <dc:creator>C.U.S.D.</dc:creator>
  <dc:description/>
  <dc:language>en-US</dc:language>
  <cp:lastModifiedBy>Carol Moule</cp:lastModifiedBy>
  <dcterms:modified xsi:type="dcterms:W3CDTF">2010-08-13T12:40:24Z</dcterms:modified>
  <cp:revision>9</cp:revision>
  <dc:subject/>
  <dc:title>A New Bicycle</dc:title>
</cp:coreProperties>
</file>